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76CC-3D4E-4D71-9F97-8C94E81B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C781-8EF8-4510-AA64-225B47BF5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D47A-96B4-488A-B593-0F14B9C3C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0785-25F3-479B-AC6B-C6CF6C94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CD6C-9CCF-4898-9784-6FAF93272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CA3-5C62-41C6-96D0-43BB1FBD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79C-D468-45D6-B154-932E594E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E57-3D22-4E3C-8614-A427DD19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E16-D3C0-41C4-8B98-FD8927E3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699-F44B-4636-948E-A7E32324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44B-4FCF-4BAC-BDC9-D935CA99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993-4AEE-4ADC-AC98-04BAC9DB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9EC-4D48-4397-8A61-3F109317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308-7074-4B8F-8B65-D7200327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43D-98A1-4BE2-A803-88EE8AA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BCE-D8A1-470D-B274-F7F54D6A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080-4365-41A8-AAFC-92C9161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2731-2235-46CE-8834-B9A3B8859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137160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t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d a review to Dest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848720" cy="4905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762120" y="5181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 for your bo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04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858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title of the book you are re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1143000" y="2514600"/>
            <a:ext cx="2514600" cy="380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Notched Right Arrow 4"/>
          <p:cNvSpPr/>
          <p:nvPr/>
        </p:nvSpPr>
        <p:spPr>
          <a:xfrm rot="16424400">
            <a:off x="1008360" y="3842280"/>
            <a:ext cx="2249640" cy="615960"/>
          </a:xfrm>
          <a:custGeom>
            <a:avLst/>
            <a:gdLst>
              <a:gd name="textAreaLeft" fmla="*/ 154080 w 2249640"/>
              <a:gd name="textAreaRight" fmla="*/ 2095560 w 2249640"/>
              <a:gd name="textAreaTop" fmla="*/ 154080 h 615960"/>
              <a:gd name="textAreaBottom" fmla="*/ 462240 h 61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40" y="5400"/>
                </a:lnTo>
                <a:lnTo>
                  <a:pt x="18640" y="0"/>
                </a:lnTo>
                <a:lnTo>
                  <a:pt x="21600" y="10800"/>
                </a:lnTo>
                <a:lnTo>
                  <a:pt x="18640" y="21600"/>
                </a:lnTo>
                <a:lnTo>
                  <a:pt x="18640" y="16200"/>
                </a:lnTo>
                <a:lnTo>
                  <a:pt x="0" y="16200"/>
                </a:lnTo>
                <a:lnTo>
                  <a:pt x="14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Oval 2"/>
          <p:cNvSpPr/>
          <p:nvPr/>
        </p:nvSpPr>
        <p:spPr>
          <a:xfrm>
            <a:off x="7238880" y="1752480"/>
            <a:ext cx="9907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04920" y="5943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reviews 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Notched Right Arrow 4"/>
          <p:cNvSpPr/>
          <p:nvPr/>
        </p:nvSpPr>
        <p:spPr>
          <a:xfrm rot="19170600">
            <a:off x="2363760" y="3619080"/>
            <a:ext cx="5562720" cy="762120"/>
          </a:xfrm>
          <a:custGeom>
            <a:avLst/>
            <a:gdLst>
              <a:gd name="textAreaLeft" fmla="*/ 190080 w 5562720"/>
              <a:gd name="textAreaRight" fmla="*/ 5372640 w 55627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122" y="5400"/>
                </a:lnTo>
                <a:lnTo>
                  <a:pt x="20122" y="0"/>
                </a:lnTo>
                <a:lnTo>
                  <a:pt x="21600" y="10800"/>
                </a:lnTo>
                <a:lnTo>
                  <a:pt x="20122" y="21600"/>
                </a:lnTo>
                <a:lnTo>
                  <a:pt x="20122" y="16200"/>
                </a:lnTo>
                <a:lnTo>
                  <a:pt x="0" y="16200"/>
                </a:lnTo>
                <a:lnTo>
                  <a:pt x="73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Oval 2"/>
          <p:cNvSpPr/>
          <p:nvPr/>
        </p:nvSpPr>
        <p:spPr>
          <a:xfrm>
            <a:off x="7315200" y="1981080"/>
            <a:ext cx="137160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080" y="5791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Add Review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Notched Right Arrow 4"/>
          <p:cNvSpPr/>
          <p:nvPr/>
        </p:nvSpPr>
        <p:spPr>
          <a:xfrm rot="18943800">
            <a:off x="3865320" y="3830400"/>
            <a:ext cx="4282920" cy="720720"/>
          </a:xfrm>
          <a:custGeom>
            <a:avLst/>
            <a:gdLst>
              <a:gd name="textAreaLeft" fmla="*/ 179640 w 4282920"/>
              <a:gd name="textAreaRight" fmla="*/ 4103280 w 42829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785" y="5400"/>
                </a:lnTo>
                <a:lnTo>
                  <a:pt x="19785" y="0"/>
                </a:lnTo>
                <a:lnTo>
                  <a:pt x="21600" y="10800"/>
                </a:lnTo>
                <a:lnTo>
                  <a:pt x="19785" y="21600"/>
                </a:lnTo>
                <a:lnTo>
                  <a:pt x="19785" y="16200"/>
                </a:lnTo>
                <a:lnTo>
                  <a:pt x="0" y="16200"/>
                </a:lnTo>
                <a:lnTo>
                  <a:pt x="9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5000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609480" y="51055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number of stars you want to give the book (1 = bad, 5 = aweso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"/>
          <p:cNvSpPr/>
          <p:nvPr/>
        </p:nvSpPr>
        <p:spPr>
          <a:xfrm>
            <a:off x="2362320" y="2133720"/>
            <a:ext cx="1981080" cy="761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otched Right Arrow 4"/>
          <p:cNvSpPr/>
          <p:nvPr/>
        </p:nvSpPr>
        <p:spPr>
          <a:xfrm rot="16200000">
            <a:off x="2171880" y="3619440"/>
            <a:ext cx="2133360" cy="990720"/>
          </a:xfrm>
          <a:custGeom>
            <a:avLst/>
            <a:gdLst>
              <a:gd name="textAreaLeft" fmla="*/ 247320 w 2133360"/>
              <a:gd name="textAreaRight" fmla="*/ 1886040 w 21333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86" y="5400"/>
                </a:lnTo>
                <a:lnTo>
                  <a:pt x="16586" y="0"/>
                </a:lnTo>
                <a:lnTo>
                  <a:pt x="21600" y="10800"/>
                </a:lnTo>
                <a:lnTo>
                  <a:pt x="16586" y="21600"/>
                </a:lnTo>
                <a:lnTo>
                  <a:pt x="16586" y="16200"/>
                </a:lnTo>
                <a:lnTo>
                  <a:pt x="0" y="16200"/>
                </a:lnTo>
                <a:lnTo>
                  <a:pt x="250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04920" y="53038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your Microsoft Word document on the task bar (it should still be on the bottom of your sc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41212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Oval 3"/>
          <p:cNvSpPr/>
          <p:nvPr/>
        </p:nvSpPr>
        <p:spPr>
          <a:xfrm>
            <a:off x="1905120" y="4876920"/>
            <a:ext cx="1600200" cy="609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295280" y="51055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your review and copy it.  (either ctrl and c or right click and cop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848360" cy="4905360"/>
          </a:xfrm>
          <a:prstGeom prst="rect">
            <a:avLst/>
          </a:prstGeom>
          <a:ln w="0">
            <a:noFill/>
          </a:ln>
        </p:spPr>
      </p:pic>
      <p:sp>
        <p:nvSpPr>
          <p:cNvPr id="95" name="Oval 3"/>
          <p:cNvSpPr/>
          <p:nvPr/>
        </p:nvSpPr>
        <p:spPr>
          <a:xfrm>
            <a:off x="3048120" y="1905120"/>
            <a:ext cx="129528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5238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Destiny in the task bar to maximize it (it should still be on the bottom of your scree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971800" y="4952880"/>
            <a:ext cx="1295280" cy="381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Notched Right Arrow 5"/>
          <p:cNvSpPr/>
          <p:nvPr/>
        </p:nvSpPr>
        <p:spPr>
          <a:xfrm rot="20677200">
            <a:off x="1676160" y="5181120"/>
            <a:ext cx="1360440" cy="549360"/>
          </a:xfrm>
          <a:custGeom>
            <a:avLst/>
            <a:gdLst>
              <a:gd name="textAreaLeft" fmla="*/ 137160 w 1360440"/>
              <a:gd name="textAreaRight" fmla="*/ 1223280 w 136044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43" y="5400"/>
                </a:lnTo>
                <a:lnTo>
                  <a:pt x="17243" y="0"/>
                </a:lnTo>
                <a:lnTo>
                  <a:pt x="21600" y="10800"/>
                </a:lnTo>
                <a:lnTo>
                  <a:pt x="17243" y="21600"/>
                </a:lnTo>
                <a:lnTo>
                  <a:pt x="17243" y="16200"/>
                </a:lnTo>
                <a:lnTo>
                  <a:pt x="0" y="16200"/>
                </a:lnTo>
                <a:lnTo>
                  <a:pt x="217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5000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0" y="480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in the empty box under “Enter your comments below…”                               Paste your re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ither ctrl and v or right click and pas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838080" y="2133720"/>
            <a:ext cx="4419720" cy="1676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760120" y="57150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on s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Notched Right Arrow 3"/>
          <p:cNvSpPr/>
          <p:nvPr/>
        </p:nvSpPr>
        <p:spPr>
          <a:xfrm rot="18943200">
            <a:off x="3306600" y="3176280"/>
            <a:ext cx="5139000" cy="1523880"/>
          </a:xfrm>
          <a:custGeom>
            <a:avLst/>
            <a:gdLst>
              <a:gd name="textAreaLeft" fmla="*/ 380880 w 5139000"/>
              <a:gd name="textAreaRight" fmla="*/ 4758120 w 5139000"/>
              <a:gd name="textAreaTop" fmla="*/ 380880 h 1523880"/>
              <a:gd name="textAreaBottom" fmla="*/ 11430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397" y="5400"/>
                </a:lnTo>
                <a:lnTo>
                  <a:pt x="18397" y="0"/>
                </a:lnTo>
                <a:lnTo>
                  <a:pt x="21600" y="10800"/>
                </a:lnTo>
                <a:lnTo>
                  <a:pt x="18397" y="21600"/>
                </a:lnTo>
                <a:lnTo>
                  <a:pt x="18397" y="16200"/>
                </a:lnTo>
                <a:lnTo>
                  <a:pt x="0" y="16200"/>
                </a:lnTo>
                <a:lnTo>
                  <a:pt x="160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7620120" y="1752480"/>
            <a:ext cx="990360" cy="304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457200" y="152280"/>
            <a:ext cx="8686800" cy="64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you need to open your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the “Office” Folder on your desk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click on Mircosoft Word icon--This opens a blank page.  Type your paper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 your document. MINIMIZE the documen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the “Lab and Library Resources” folder on your desk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click on the Destiny i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in to Destiny (User Name: your student number, Password: you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 nu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Catalog 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 for the book you review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book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Reviews 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Add a Review button (if the button isn’t there, you aren’t logged in to Destiny!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number of stars you want to give the book (1 = bad, 5 = aweso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ize your word document with your review (it should still be on the bottom of your sc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your review and copy it.  (either ctrl and c or right click and cop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Destiny in the task bar to maximize it (it should still be on the bottom of your scre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in the empty box under “Enter your comments below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te your review (either ctrl and v or right click and past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s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now will have to wait for Ms. Carver to approve the review before you see it on Destin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066680" y="57913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view will be posted as soon as it is approved by Ms. Ca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514600" y="1600200"/>
            <a:ext cx="457200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Notched Right Arrow 4"/>
          <p:cNvSpPr/>
          <p:nvPr/>
        </p:nvSpPr>
        <p:spPr>
          <a:xfrm rot="16200000">
            <a:off x="2727000" y="3596760"/>
            <a:ext cx="3537000" cy="914400"/>
          </a:xfrm>
          <a:custGeom>
            <a:avLst/>
            <a:gdLst>
              <a:gd name="textAreaLeft" fmla="*/ 228600 w 3537000"/>
              <a:gd name="textAreaRight" fmla="*/ 3308400 w 35370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07" y="5400"/>
                </a:lnTo>
                <a:lnTo>
                  <a:pt x="18807" y="0"/>
                </a:lnTo>
                <a:lnTo>
                  <a:pt x="21600" y="10800"/>
                </a:lnTo>
                <a:lnTo>
                  <a:pt x="18807" y="21600"/>
                </a:lnTo>
                <a:lnTo>
                  <a:pt x="18807" y="16200"/>
                </a:lnTo>
                <a:lnTo>
                  <a:pt x="0" y="16200"/>
                </a:lnTo>
                <a:lnTo>
                  <a:pt x="139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0"/>
          <p:cNvSpPr/>
          <p:nvPr/>
        </p:nvSpPr>
        <p:spPr>
          <a:xfrm>
            <a:off x="990720" y="504180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he “Office” Folder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on the Microsoft Office Word 2007 ic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rcRect l="8339" t="9694" r="8339" b="0"/>
          <a:stretch/>
        </p:blipFill>
        <p:spPr>
          <a:xfrm>
            <a:off x="1143000" y="762120"/>
            <a:ext cx="6288120" cy="4259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9"/>
          <p:cNvSpPr/>
          <p:nvPr/>
        </p:nvSpPr>
        <p:spPr>
          <a:xfrm>
            <a:off x="609480" y="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you need to type your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0"/>
          <p:cNvSpPr/>
          <p:nvPr/>
        </p:nvSpPr>
        <p:spPr>
          <a:xfrm>
            <a:off x="3429000" y="3124080"/>
            <a:ext cx="152388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8333" t="0" r="8333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990720" y="495288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now have a blank documen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your review on this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877896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533520" y="54100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word document.  DO NOT CLOSE IT, just minim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e little dash icon in the top right corner minimizes the docu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ight Arrow 8"/>
          <p:cNvSpPr/>
          <p:nvPr/>
        </p:nvSpPr>
        <p:spPr>
          <a:xfrm rot="18517200">
            <a:off x="7613280" y="263520"/>
            <a:ext cx="1108080" cy="9050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9723" r="886" b="0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1828800" y="838080"/>
            <a:ext cx="1676520" cy="609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0" y="52578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on the desktop, double click on the Lab and Library Resources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click on the Destiny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ice how our Microsoft Word document is on the task bar at the bottom of our scre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4714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80880" y="4952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Destiny, the library homepag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ll need to log in to post a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6781680" y="533520"/>
            <a:ext cx="990720" cy="838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5"/>
          <p:cNvSpPr/>
          <p:nvPr/>
        </p:nvSpPr>
        <p:spPr>
          <a:xfrm rot="18230400">
            <a:off x="3531960" y="2923920"/>
            <a:ext cx="4470480" cy="6858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848720" cy="4905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33520" y="50292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login to Dest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Name: your student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word: your student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0492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catalog tab on the Destiny home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523880" y="914400"/>
            <a:ext cx="838440" cy="609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4"/>
          <p:cNvSpPr/>
          <p:nvPr/>
        </p:nvSpPr>
        <p:spPr>
          <a:xfrm rot="16972800">
            <a:off x="-156960" y="2995200"/>
            <a:ext cx="3432240" cy="7146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3:35:29Z</dcterms:created>
  <dc:creator>STSD</dc:creator>
  <dc:description/>
  <dc:language>en-US</dc:language>
  <cp:lastModifiedBy>STSD</cp:lastModifiedBy>
  <dcterms:modified xsi:type="dcterms:W3CDTF">2011-03-08T16:06:02Z</dcterms:modified>
  <cp:revision>28</cp:revision>
  <dc:subject/>
  <dc:title>Slide 1</dc:title>
</cp:coreProperties>
</file>